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D9C-6923-4229-B41D-83C4834C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D3-63DC-47D0-819F-2E0AA1DC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0CE-6BBB-4FD4-AAF3-74D54398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B02-6495-4671-80C4-1921818A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091D-E67A-484F-A132-662AD37A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F47-7EAE-49B7-BFE4-55400035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CA9D-BDBB-41BC-9C13-4A75E0C6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2D4-0BBB-4977-A3E3-5E64B5F3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92E-C82B-4E66-A95A-FB69660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C3B-BC65-4BC9-AC33-C739F06E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938-A027-4C19-852C-4924786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8DD-DACD-4937-83DA-0FCD2122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FA7C-0F83-45D9-8E00-4E64354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AB0E-6EA6-4245-BB78-F1C8E3D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6F2-F0D2-4114-8760-380C5A6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BC0C-BF8F-46AA-B0A9-C5D3FE05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5882-71B4-4120-B810-3147C460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183-5ACB-49B0-9935-E44524F3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A79-2E4E-4AA1-8E6E-4436232C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4F8-1177-4E20-9BDB-6B04A8FA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3CC-0AFF-448A-8959-BA701D81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35B-E203-46B8-BEFB-FBB8BFD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56D-F064-4498-AE92-B6D770D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6CC-3C6B-4EFD-B32C-8A8AE8E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5C7-1A24-452D-8F88-94E5DA5F0166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1B3-F08F-4D1D-8125-55A6F5A7F28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First World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Quick Review Key Concep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four main causes of WW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look in your note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s the main goal during th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three end with 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ree reasons the US entered WW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f the reasons were things that other countries were doing or thinking of doing to 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ig reason was to insure we got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1917 – Selective Service Ac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295280"/>
            <a:ext cx="6934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,000,000 men registered for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raft by the end of 1918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,800,000 men served in WW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,000,000 saw active combat)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0,000 African-America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rved in segregated unit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600200" y="1600200"/>
            <a:ext cx="5715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Expansion of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Federal Govern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7315200" cy="1295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Results of This New Organization of the Economy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752480"/>
            <a:ext cx="6934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employment virtually 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ansion of “big governmen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ssive govt. regulations i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se cooperation between public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private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precedented opportunities for disadvantaged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1478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Opportunities for </a:t>
            </a:r>
            <a:br>
              <a:rPr sz="4400"/>
            </a:b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African-Americans in WW1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3623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Great Migration.”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  1916 – 1919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28584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frican-Americans move North for war industrie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nlistment in segregated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ni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23880" y="1523880"/>
            <a:ext cx="6019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Attacks on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Civil Liberties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8305560" cy="1341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82880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Espionage Act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– 1917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forbade action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obstructed recruitment 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efforts to promo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insubordination in the milita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305920" cy="1218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800"/>
            </a:b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523880"/>
            <a:ext cx="7467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edition 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8</a:t>
            </a:r>
            <a:br>
              <a:rPr sz="3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it was a crime to speak against the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purchase of war bonds or </a:t>
            </a: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willfully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   utter, print, write or publish any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   disloyal, profane, scurrilous, or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   abusive languag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bout this form of U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Govt., the US Constitution, or the U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armed for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58840"/>
            <a:ext cx="8381880" cy="853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600"/>
            </a:b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76520"/>
            <a:ext cx="739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Schenck v. 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The most stringent protection of free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peech would not protect a man in falsely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houting fire in a theater and causing a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panic.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Justice Oliver Wendell Holmes]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- If an act of speech posed a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clear and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present dang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then Congress ha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the power to restrain such spee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Flu Epidemic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1918 an international flu epidemic spreads to the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year – 500,000 dead US; 40 million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es US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es forced to close (not enough wor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purchases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 – belief that national interests and national unity should be placed ahead of global cooperation and that a nation’s foreign affairs should be guided by self-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– the policy in which stronger nations extend their economic, political, or military control over weaker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 Fights for Pea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1918 German military takes over the German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Kaiser began peace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army/navy mu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surrenders 11/11/1918 @ 11:00 a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deaths @ 10:59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’s Fourteen Poin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cret treaties between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of the seas fo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ariffs to encourage fre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‘arms’ race and stockp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ies should be allowed 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13 Boundar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an international organization for diplomatic crisis – League of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AT HE WANTED FOR THE PEACE TREATY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eaty of Versaill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 and France wanted harsh conditions to insure Germany would not be a threat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ccepts blame for th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has to pay 132 billion in rep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military drastical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es become protectorates of Al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new nations created – Czechoslovak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, Serbia,Poland,Lithuania, Estonia, Latv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eaknesses of the Trea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iliates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s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s colonies – not self-determination or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Senate rejects Treaty and League of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nsequences of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– 10 million dead, 20 mill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- $330 billion, destruction of European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truction of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– End of German, Austrian, Russian, and Ottoman Em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weak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– deepens and expands nationalism, expands pessimistic view of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S Consequenc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0,000 dead – 300,000 inj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s America’s emergence as world’s greatest industrial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es American population to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anti-immigrant and anti-radical senti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ism – the development of armed forces and their use as a tool of diplo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ance system – treaties of assistance between nations to support one another if attacked (mutual def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uses of World War 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96840" y="1911240"/>
            <a:ext cx="6112080" cy="3797280"/>
            <a:chOff x="1896840" y="1911240"/>
            <a:chExt cx="6112080" cy="3797280"/>
          </a:xfrm>
        </p:grpSpPr>
        <p:sp>
          <p:nvSpPr>
            <p:cNvPr id="96" name="_s6149"/>
            <p:cNvSpPr/>
            <p:nvPr/>
          </p:nvSpPr>
          <p:spPr>
            <a:xfrm>
              <a:off x="4181400" y="2451240"/>
              <a:ext cx="1542960" cy="1542960"/>
            </a:xfrm>
            <a:prstGeom prst="ellipse">
              <a:avLst/>
            </a:prstGeom>
            <a:solidFill>
              <a:srgbClr val="d69b80">
                <a:alpha val="50000"/>
              </a:srgbClr>
            </a:solidFill>
            <a:ln w="468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0"/>
            <p:cNvSpPr/>
            <p:nvPr/>
          </p:nvSpPr>
          <p:spPr>
            <a:xfrm>
              <a:off x="4181400" y="191124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ATION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6151"/>
            <p:cNvSpPr/>
            <p:nvPr/>
          </p:nvSpPr>
          <p:spPr>
            <a:xfrm>
              <a:off x="4768560" y="3038400"/>
              <a:ext cx="154332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6152"/>
            <p:cNvSpPr/>
            <p:nvPr/>
          </p:nvSpPr>
          <p:spPr>
            <a:xfrm>
              <a:off x="646560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MPERI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53"/>
            <p:cNvSpPr/>
            <p:nvPr/>
          </p:nvSpPr>
          <p:spPr>
            <a:xfrm>
              <a:off x="4181400" y="3625920"/>
              <a:ext cx="154296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154"/>
            <p:cNvSpPr/>
            <p:nvPr/>
          </p:nvSpPr>
          <p:spPr>
            <a:xfrm>
              <a:off x="4181400" y="53229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LITAR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155"/>
            <p:cNvSpPr/>
            <p:nvPr/>
          </p:nvSpPr>
          <p:spPr>
            <a:xfrm>
              <a:off x="3593880" y="3038400"/>
              <a:ext cx="1543320" cy="154296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46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156"/>
            <p:cNvSpPr/>
            <p:nvPr/>
          </p:nvSpPr>
          <p:spPr>
            <a:xfrm>
              <a:off x="189684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L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003560" y="391788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hoosing Sid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 (All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merican Neutrali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ism – policy of opposition to political or economic ties with other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is strongly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mmigrants have connections to countries at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athy for the Al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/ economic ties to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atrocities in 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re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.3 billion loaned to Allies for war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U-B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blockad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u-boa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U.S. 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mmerman note – Germany promises support for Mexico to recover lost territories if U.S. ente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Wilson – 1916 Campaign pledge “He Kept Us Out of War” unable to broker a “peace among equa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5:55:16Z</dcterms:created>
  <dc:creator> </dc:creator>
  <dc:description/>
  <dc:language>en-US</dc:language>
  <cp:lastModifiedBy>School District U46</cp:lastModifiedBy>
  <dcterms:modified xsi:type="dcterms:W3CDTF">2009-11-17T13:17:06Z</dcterms:modified>
  <cp:revision>9</cp:revision>
  <dc:subject/>
  <dc:title>The First World War</dc:title>
</cp:coreProperties>
</file>